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2889-3126-4FF4-A1D8-35B5B1F2D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5CF9-0C58-42C4-B4B7-0B6113A2B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5E4E-23AB-46C2-A406-C2904C7F4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10D3-41DA-4A47-BC8E-A88DBA595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4623-5032-4E59-8A8E-777B7A6FB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5CF6-B51B-4C1C-BE0F-028B1F6A9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4016-692F-42E4-886E-44F3BACEA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9C8A-6C7E-4E34-A869-16787855F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8EAF-0E42-4670-BAD7-A3005914D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F122-8A38-4419-B929-0E34BDE0C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EABB-DC53-48B1-819A-7A51018B7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E70E-CC17-4E53-BB40-0699029CB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8ABB-2517-4152-B9CB-7551F0F16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0E9B-A62F-48AC-B3ED-CF66A251E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4F32-6C38-402F-93AA-3CD0C79AB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C502-A79E-4D46-A163-4D654FE82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D9CD-0807-44F3-AB67-0B7A77401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6E8AF-1879-4EF6-848C-50653D5E21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ADD84-B541-47D2-B7EB-27DA5E36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FECEF-7FC8-4C2B-9CEF-80CEC7E7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E5995-8148-4EC2-A2D3-BA75933B53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087D1-8276-4C0B-BB95-BDBE6073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66ADC-9AFC-4B10-8C68-DEBBB0D6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82EC4-A7AF-4960-A3B3-3AD797F3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7B77A-0EB2-4058-8CB7-69CA3531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8B701-F7AE-4FEA-A2B3-17BBE130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37785-7F4A-47C9-A84B-10BA0D42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8163A-F4CE-4694-9FD6-F7B131DF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2DE80-8339-481C-8A1E-B55A0214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6040" y="6312960"/>
            <a:ext cx="59040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0 Pearson Education, Inc. Publishing as Prentice H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6F08723F-98A1-457E-BA01-3ACEF526D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90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: Why Project Managem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Cover.jpg"/>
          <p:cNvPicPr/>
          <p:nvPr/>
        </p:nvPicPr>
        <p:blipFill>
          <a:blip r:embed="rId1"/>
          <a:stretch/>
        </p:blipFill>
        <p:spPr>
          <a:xfrm>
            <a:off x="357120" y="2568600"/>
            <a:ext cx="260208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7B7DE-D456-40DD-8667-039F8D940F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re Projects Import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ened product life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product launch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ly complex and technical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e of global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 period marked by low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652D9-A42D-4D00-9137-193058ACB3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Life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358920" y="1484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11"/>
          <p:cNvGrpSpPr/>
          <p:nvPr/>
        </p:nvGrpSpPr>
        <p:grpSpPr>
          <a:xfrm>
            <a:off x="755640" y="1628280"/>
            <a:ext cx="7596000" cy="3529440"/>
            <a:chOff x="755640" y="1628280"/>
            <a:chExt cx="7596000" cy="3529440"/>
          </a:xfrm>
        </p:grpSpPr>
        <p:sp>
          <p:nvSpPr>
            <p:cNvPr id="74" name="Line 5"/>
            <p:cNvSpPr/>
            <p:nvPr/>
          </p:nvSpPr>
          <p:spPr>
            <a:xfrm>
              <a:off x="755640" y="5157720"/>
              <a:ext cx="759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6"/>
            <p:cNvSpPr/>
            <p:nvPr/>
          </p:nvSpPr>
          <p:spPr>
            <a:xfrm flipV="1">
              <a:off x="755640" y="1628280"/>
              <a:ext cx="0" cy="352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 Box 7"/>
          <p:cNvSpPr/>
          <p:nvPr/>
        </p:nvSpPr>
        <p:spPr>
          <a:xfrm>
            <a:off x="539640" y="5157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u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232000" y="5157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4211640" y="5157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6264360" y="5157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4"/>
          <p:cNvSpPr/>
          <p:nvPr/>
        </p:nvSpPr>
        <p:spPr>
          <a:xfrm flipV="1">
            <a:off x="2519280" y="1988640"/>
            <a:ext cx="0" cy="3132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5"/>
          <p:cNvSpPr/>
          <p:nvPr/>
        </p:nvSpPr>
        <p:spPr>
          <a:xfrm flipV="1">
            <a:off x="3851280" y="2023560"/>
            <a:ext cx="0" cy="3132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6"/>
          <p:cNvSpPr/>
          <p:nvPr/>
        </p:nvSpPr>
        <p:spPr>
          <a:xfrm flipV="1">
            <a:off x="6551640" y="2023560"/>
            <a:ext cx="0" cy="3132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7"/>
          <p:cNvSpPr/>
          <p:nvPr/>
        </p:nvSpPr>
        <p:spPr>
          <a:xfrm>
            <a:off x="792000" y="5013360"/>
            <a:ext cx="324000" cy="14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8"/>
          <p:cNvSpPr/>
          <p:nvPr/>
        </p:nvSpPr>
        <p:spPr>
          <a:xfrm>
            <a:off x="1224000" y="4869000"/>
            <a:ext cx="323640" cy="28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9"/>
          <p:cNvSpPr/>
          <p:nvPr/>
        </p:nvSpPr>
        <p:spPr>
          <a:xfrm>
            <a:off x="1619280" y="4797360"/>
            <a:ext cx="324000" cy="360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0"/>
          <p:cNvSpPr/>
          <p:nvPr/>
        </p:nvSpPr>
        <p:spPr>
          <a:xfrm>
            <a:off x="2050920" y="4689360"/>
            <a:ext cx="324000" cy="468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1"/>
          <p:cNvSpPr/>
          <p:nvPr/>
        </p:nvSpPr>
        <p:spPr>
          <a:xfrm>
            <a:off x="2612880" y="4465800"/>
            <a:ext cx="324000" cy="693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2"/>
          <p:cNvSpPr/>
          <p:nvPr/>
        </p:nvSpPr>
        <p:spPr>
          <a:xfrm>
            <a:off x="3002040" y="4268880"/>
            <a:ext cx="323640" cy="8874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3"/>
          <p:cNvSpPr/>
          <p:nvPr/>
        </p:nvSpPr>
        <p:spPr>
          <a:xfrm>
            <a:off x="3416400" y="3994200"/>
            <a:ext cx="323640" cy="1152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4"/>
          <p:cNvSpPr/>
          <p:nvPr/>
        </p:nvSpPr>
        <p:spPr>
          <a:xfrm>
            <a:off x="3960720" y="3824280"/>
            <a:ext cx="324000" cy="1333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5"/>
          <p:cNvSpPr/>
          <p:nvPr/>
        </p:nvSpPr>
        <p:spPr>
          <a:xfrm>
            <a:off x="4356000" y="3494160"/>
            <a:ext cx="324000" cy="1663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6"/>
          <p:cNvSpPr/>
          <p:nvPr/>
        </p:nvSpPr>
        <p:spPr>
          <a:xfrm>
            <a:off x="4788000" y="2997360"/>
            <a:ext cx="323640" cy="2160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7523280" y="4400640"/>
            <a:ext cx="323640" cy="757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8"/>
          <p:cNvSpPr/>
          <p:nvPr/>
        </p:nvSpPr>
        <p:spPr>
          <a:xfrm>
            <a:off x="7128000" y="3968640"/>
            <a:ext cx="323640" cy="1189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9"/>
          <p:cNvSpPr/>
          <p:nvPr/>
        </p:nvSpPr>
        <p:spPr>
          <a:xfrm>
            <a:off x="6696000" y="3392640"/>
            <a:ext cx="324000" cy="17650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1"/>
          <p:cNvSpPr/>
          <p:nvPr/>
        </p:nvSpPr>
        <p:spPr>
          <a:xfrm>
            <a:off x="7920000" y="4797360"/>
            <a:ext cx="324000" cy="3603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2"/>
          <p:cNvSpPr/>
          <p:nvPr/>
        </p:nvSpPr>
        <p:spPr>
          <a:xfrm>
            <a:off x="5219640" y="2421000"/>
            <a:ext cx="324000" cy="27367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3"/>
          <p:cNvSpPr/>
          <p:nvPr/>
        </p:nvSpPr>
        <p:spPr>
          <a:xfrm>
            <a:off x="6119640" y="2816280"/>
            <a:ext cx="324000" cy="234144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4"/>
          <p:cNvSpPr/>
          <p:nvPr/>
        </p:nvSpPr>
        <p:spPr>
          <a:xfrm>
            <a:off x="5688000" y="2349360"/>
            <a:ext cx="324000" cy="28083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3"/>
          <p:cNvSpPr/>
          <p:nvPr/>
        </p:nvSpPr>
        <p:spPr>
          <a:xfrm>
            <a:off x="3860640" y="5529240"/>
            <a:ext cx="48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 1.3 Project Life Cycl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0B1C6-60B4-4F39-80D7-D4D176166A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Life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ceptua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the development of the initial goal and technical specif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lan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ll detailed specifications, schedules, schematics, and plans are develo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ec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e actual “work” of the project is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erm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roject is transferred to the customer, resources reassigned, project is closed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D1A0C-B888-47ED-AAA3-1068700937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Life Cycles and Their Eff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4"/>
          <p:cNvGrpSpPr/>
          <p:nvPr/>
        </p:nvGrpSpPr>
        <p:grpSpPr>
          <a:xfrm>
            <a:off x="539640" y="1521000"/>
            <a:ext cx="7812000" cy="4473360"/>
            <a:chOff x="539640" y="1521000"/>
            <a:chExt cx="7812000" cy="4473360"/>
          </a:xfrm>
        </p:grpSpPr>
        <p:grpSp>
          <p:nvGrpSpPr>
            <p:cNvPr id="105" name="Group 5"/>
            <p:cNvGrpSpPr/>
            <p:nvPr/>
          </p:nvGrpSpPr>
          <p:grpSpPr>
            <a:xfrm>
              <a:off x="755640" y="1521000"/>
              <a:ext cx="7596000" cy="4104720"/>
              <a:chOff x="755640" y="1521000"/>
              <a:chExt cx="7596000" cy="4104720"/>
            </a:xfrm>
          </p:grpSpPr>
          <p:sp>
            <p:nvSpPr>
              <p:cNvPr id="106" name="Line 6"/>
              <p:cNvSpPr/>
              <p:nvPr/>
            </p:nvSpPr>
            <p:spPr>
              <a:xfrm>
                <a:off x="755640" y="5625720"/>
                <a:ext cx="7596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 flipV="1">
                <a:off x="755640" y="1521000"/>
                <a:ext cx="0" cy="4104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Text Box 8"/>
            <p:cNvSpPr/>
            <p:nvPr/>
          </p:nvSpPr>
          <p:spPr>
            <a:xfrm>
              <a:off x="539640" y="5626080"/>
              <a:ext cx="20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ceptual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9"/>
            <p:cNvSpPr/>
            <p:nvPr/>
          </p:nvSpPr>
          <p:spPr>
            <a:xfrm>
              <a:off x="2232000" y="562608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0"/>
            <p:cNvSpPr/>
            <p:nvPr/>
          </p:nvSpPr>
          <p:spPr>
            <a:xfrm>
              <a:off x="4211640" y="562608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ec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1"/>
            <p:cNvSpPr/>
            <p:nvPr/>
          </p:nvSpPr>
          <p:spPr>
            <a:xfrm>
              <a:off x="6264360" y="562608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rmi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 flipV="1">
              <a:off x="6551640" y="1591920"/>
              <a:ext cx="0" cy="40323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32"/>
            <p:cNvSpPr/>
            <p:nvPr/>
          </p:nvSpPr>
          <p:spPr>
            <a:xfrm flipV="1">
              <a:off x="3708360" y="1591920"/>
              <a:ext cx="0" cy="40323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33"/>
            <p:cNvSpPr/>
            <p:nvPr/>
          </p:nvSpPr>
          <p:spPr>
            <a:xfrm flipV="1">
              <a:off x="2484360" y="1557000"/>
              <a:ext cx="0" cy="40323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Freeform 36"/>
          <p:cNvSpPr/>
          <p:nvPr/>
        </p:nvSpPr>
        <p:spPr>
          <a:xfrm>
            <a:off x="731880" y="2060640"/>
            <a:ext cx="7296120" cy="2916000"/>
          </a:xfrm>
          <a:custGeom>
            <a:avLst/>
            <a:gdLst>
              <a:gd name="textAreaLeft" fmla="*/ 0 w 7296120"/>
              <a:gd name="textAreaRight" fmla="*/ 7296480 w 7296120"/>
              <a:gd name="textAreaTop" fmla="*/ 0 h 2916000"/>
              <a:gd name="textAreaBottom" fmla="*/ 2916360 h 2916000"/>
            </a:gdLst>
            <a:ahLst/>
            <a:rect l="textAreaLeft" t="textAreaTop" r="textAreaRight" b="textAreaBottom"/>
            <a:pathLst>
              <a:path w="4596" h="1837">
                <a:moveTo>
                  <a:pt x="15" y="0"/>
                </a:moveTo>
                <a:cubicBezTo>
                  <a:pt x="7" y="210"/>
                  <a:pt x="0" y="420"/>
                  <a:pt x="763" y="726"/>
                </a:cubicBezTo>
                <a:cubicBezTo>
                  <a:pt x="1526" y="1032"/>
                  <a:pt x="3061" y="1434"/>
                  <a:pt x="4596" y="1837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8"/>
          <p:cNvSpPr/>
          <p:nvPr/>
        </p:nvSpPr>
        <p:spPr>
          <a:xfrm rot="21207600">
            <a:off x="647640" y="2421000"/>
            <a:ext cx="7740720" cy="2592360"/>
          </a:xfrm>
          <a:custGeom>
            <a:avLst/>
            <a:gdLst>
              <a:gd name="textAreaLeft" fmla="*/ 0 w 7740720"/>
              <a:gd name="textAreaRight" fmla="*/ 7741080 w 7740720"/>
              <a:gd name="textAreaTop" fmla="*/ 0 h 2592360"/>
              <a:gd name="textAreaBottom" fmla="*/ 2592360 h 2592360"/>
            </a:gdLst>
            <a:ahLst/>
            <a:rect l="textAreaLeft" t="textAreaTop" r="textAreaRight" b="textAreaBottom"/>
            <a:pathLst>
              <a:path w="4876" h="1633">
                <a:moveTo>
                  <a:pt x="0" y="1361"/>
                </a:moveTo>
                <a:cubicBezTo>
                  <a:pt x="206" y="1497"/>
                  <a:pt x="412" y="1633"/>
                  <a:pt x="1225" y="1406"/>
                </a:cubicBezTo>
                <a:cubicBezTo>
                  <a:pt x="2038" y="1179"/>
                  <a:pt x="3457" y="589"/>
                  <a:pt x="4876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39"/>
          <p:cNvSpPr/>
          <p:nvPr/>
        </p:nvSpPr>
        <p:spPr>
          <a:xfrm rot="192600">
            <a:off x="718920" y="1449000"/>
            <a:ext cx="7669080" cy="3492360"/>
          </a:xfrm>
          <a:custGeom>
            <a:avLst/>
            <a:gdLst>
              <a:gd name="textAreaLeft" fmla="*/ 0 w 7669080"/>
              <a:gd name="textAreaRight" fmla="*/ 7669440 w 7669080"/>
              <a:gd name="textAreaTop" fmla="*/ 0 h 3492360"/>
              <a:gd name="textAreaBottom" fmla="*/ 3492720 h 3492360"/>
            </a:gdLst>
            <a:ahLst/>
            <a:rect l="textAreaLeft" t="textAreaTop" r="textAreaRight" b="textAreaBottom"/>
            <a:pathLst>
              <a:path w="5080" h="2245">
                <a:moveTo>
                  <a:pt x="0" y="382"/>
                </a:moveTo>
                <a:cubicBezTo>
                  <a:pt x="756" y="1313"/>
                  <a:pt x="1512" y="2245"/>
                  <a:pt x="2200" y="2241"/>
                </a:cubicBezTo>
                <a:cubicBezTo>
                  <a:pt x="2888" y="2237"/>
                  <a:pt x="3648" y="718"/>
                  <a:pt x="4128" y="359"/>
                </a:cubicBezTo>
                <a:cubicBezTo>
                  <a:pt x="4608" y="0"/>
                  <a:pt x="4921" y="132"/>
                  <a:pt x="5080" y="87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0"/>
          <p:cNvSpPr/>
          <p:nvPr/>
        </p:nvSpPr>
        <p:spPr>
          <a:xfrm>
            <a:off x="755640" y="2038320"/>
            <a:ext cx="7596360" cy="1311480"/>
          </a:xfrm>
          <a:custGeom>
            <a:avLst/>
            <a:gdLst>
              <a:gd name="textAreaLeft" fmla="*/ 0 w 7596360"/>
              <a:gd name="textAreaRight" fmla="*/ 7596720 w 7596360"/>
              <a:gd name="textAreaTop" fmla="*/ 0 h 1311480"/>
              <a:gd name="textAreaBottom" fmla="*/ 1311840 h 1311480"/>
            </a:gdLst>
            <a:ahLst/>
            <a:rect l="textAreaLeft" t="textAreaTop" r="textAreaRight" b="textAreaBottom"/>
            <a:pathLst>
              <a:path w="4785" h="826">
                <a:moveTo>
                  <a:pt x="0" y="513"/>
                </a:moveTo>
                <a:cubicBezTo>
                  <a:pt x="474" y="526"/>
                  <a:pt x="949" y="539"/>
                  <a:pt x="1202" y="513"/>
                </a:cubicBezTo>
                <a:cubicBezTo>
                  <a:pt x="1455" y="487"/>
                  <a:pt x="1254" y="430"/>
                  <a:pt x="1519" y="354"/>
                </a:cubicBezTo>
                <a:cubicBezTo>
                  <a:pt x="1784" y="278"/>
                  <a:pt x="2340" y="0"/>
                  <a:pt x="2790" y="60"/>
                </a:cubicBezTo>
                <a:cubicBezTo>
                  <a:pt x="3240" y="120"/>
                  <a:pt x="3886" y="608"/>
                  <a:pt x="4218" y="717"/>
                </a:cubicBezTo>
                <a:cubicBezTo>
                  <a:pt x="4550" y="826"/>
                  <a:pt x="4667" y="771"/>
                  <a:pt x="4785" y="717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1"/>
          <p:cNvSpPr/>
          <p:nvPr/>
        </p:nvSpPr>
        <p:spPr>
          <a:xfrm rot="21435000">
            <a:off x="755640" y="1449000"/>
            <a:ext cx="7524720" cy="3708360"/>
          </a:xfrm>
          <a:custGeom>
            <a:avLst/>
            <a:gdLst>
              <a:gd name="textAreaLeft" fmla="*/ 0 w 7524720"/>
              <a:gd name="textAreaRight" fmla="*/ 7525080 w 7524720"/>
              <a:gd name="textAreaTop" fmla="*/ 0 h 3708360"/>
              <a:gd name="textAreaBottom" fmla="*/ 3708720 h 3708360"/>
            </a:gdLst>
            <a:ahLst/>
            <a:rect l="textAreaLeft" t="textAreaTop" r="textAreaRight" b="textAreaBottom"/>
            <a:pathLst>
              <a:path w="5103" h="2623">
                <a:moveTo>
                  <a:pt x="0" y="2623"/>
                </a:moveTo>
                <a:cubicBezTo>
                  <a:pt x="790" y="1993"/>
                  <a:pt x="1580" y="1364"/>
                  <a:pt x="2041" y="967"/>
                </a:cubicBezTo>
                <a:cubicBezTo>
                  <a:pt x="2502" y="570"/>
                  <a:pt x="2548" y="374"/>
                  <a:pt x="2767" y="242"/>
                </a:cubicBezTo>
                <a:cubicBezTo>
                  <a:pt x="2986" y="110"/>
                  <a:pt x="3070" y="0"/>
                  <a:pt x="3357" y="174"/>
                </a:cubicBezTo>
                <a:cubicBezTo>
                  <a:pt x="3644" y="348"/>
                  <a:pt x="4200" y="1115"/>
                  <a:pt x="4491" y="1285"/>
                </a:cubicBezTo>
                <a:cubicBezTo>
                  <a:pt x="4782" y="1455"/>
                  <a:pt x="4942" y="1324"/>
                  <a:pt x="5103" y="1194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2"/>
          <p:cNvSpPr/>
          <p:nvPr/>
        </p:nvSpPr>
        <p:spPr>
          <a:xfrm>
            <a:off x="7164360" y="49417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3"/>
          <p:cNvSpPr/>
          <p:nvPr/>
        </p:nvSpPr>
        <p:spPr>
          <a:xfrm>
            <a:off x="7201080" y="1376280"/>
            <a:ext cx="16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4"/>
          <p:cNvSpPr/>
          <p:nvPr/>
        </p:nvSpPr>
        <p:spPr>
          <a:xfrm>
            <a:off x="7164360" y="21337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St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5"/>
          <p:cNvSpPr/>
          <p:nvPr/>
        </p:nvSpPr>
        <p:spPr>
          <a:xfrm>
            <a:off x="7128000" y="33577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6"/>
          <p:cNvSpPr/>
          <p:nvPr/>
        </p:nvSpPr>
        <p:spPr>
          <a:xfrm>
            <a:off x="7343640" y="267336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5"/>
          <p:cNvSpPr/>
          <p:nvPr/>
        </p:nvSpPr>
        <p:spPr>
          <a:xfrm>
            <a:off x="6429240" y="6008760"/>
            <a:ext cx="11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72A57-A516-4ED5-9F0B-861EE932B5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8960" y="-36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adruple Constraint of Project Su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24"/>
          <p:cNvGrpSpPr/>
          <p:nvPr/>
        </p:nvGrpSpPr>
        <p:grpSpPr>
          <a:xfrm>
            <a:off x="1365120" y="1413000"/>
            <a:ext cx="5333760" cy="4724280"/>
            <a:chOff x="1365120" y="1413000"/>
            <a:chExt cx="5333760" cy="4724280"/>
          </a:xfrm>
        </p:grpSpPr>
        <p:sp>
          <p:nvSpPr>
            <p:cNvPr id="128" name="Oval 10"/>
            <p:cNvSpPr/>
            <p:nvPr/>
          </p:nvSpPr>
          <p:spPr>
            <a:xfrm>
              <a:off x="1365120" y="1413000"/>
              <a:ext cx="3733560" cy="3276360"/>
            </a:xfrm>
            <a:prstGeom prst="ellipse">
              <a:avLst/>
            </a:prstGeom>
            <a:solidFill>
              <a:srgbClr val="99cc00">
                <a:alpha val="3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9"/>
            <p:cNvSpPr/>
            <p:nvPr/>
          </p:nvSpPr>
          <p:spPr>
            <a:xfrm>
              <a:off x="2965320" y="2860560"/>
              <a:ext cx="3733560" cy="3276720"/>
            </a:xfrm>
            <a:prstGeom prst="ellipse">
              <a:avLst/>
            </a:prstGeom>
            <a:solidFill>
              <a:srgbClr val="ccffff">
                <a:alpha val="3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0"/>
            <p:cNvSpPr/>
            <p:nvPr/>
          </p:nvSpPr>
          <p:spPr>
            <a:xfrm>
              <a:off x="1365120" y="2860560"/>
              <a:ext cx="3733560" cy="3276720"/>
            </a:xfrm>
            <a:prstGeom prst="ellipse">
              <a:avLst/>
            </a:prstGeom>
            <a:solidFill>
              <a:srgbClr val="ff99cc">
                <a:alpha val="3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1"/>
            <p:cNvSpPr/>
            <p:nvPr/>
          </p:nvSpPr>
          <p:spPr>
            <a:xfrm>
              <a:off x="2965320" y="1413000"/>
              <a:ext cx="3733560" cy="3276360"/>
            </a:xfrm>
            <a:prstGeom prst="ellipse">
              <a:avLst/>
            </a:prstGeom>
            <a:solidFill>
              <a:srgbClr val="ffcc99">
                <a:alpha val="3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4"/>
            <p:cNvSpPr/>
            <p:nvPr/>
          </p:nvSpPr>
          <p:spPr>
            <a:xfrm>
              <a:off x="3422520" y="3546360"/>
              <a:ext cx="112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5"/>
            <p:cNvSpPr/>
            <p:nvPr/>
          </p:nvSpPr>
          <p:spPr>
            <a:xfrm>
              <a:off x="1822320" y="2174760"/>
              <a:ext cx="112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6"/>
            <p:cNvSpPr/>
            <p:nvPr/>
          </p:nvSpPr>
          <p:spPr>
            <a:xfrm>
              <a:off x="5022720" y="1793880"/>
              <a:ext cx="15238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cept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7"/>
            <p:cNvSpPr/>
            <p:nvPr/>
          </p:nvSpPr>
          <p:spPr>
            <a:xfrm>
              <a:off x="1669680" y="50706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chedu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8"/>
            <p:cNvSpPr/>
            <p:nvPr/>
          </p:nvSpPr>
          <p:spPr>
            <a:xfrm>
              <a:off x="4870080" y="507060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11198-E361-450F-A941-F04344DDF6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 Criteria for IT Project Suc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8FB82-E62F-4E7C-AD46-CDAB409F8B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 Dimensions of Project Su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21"/>
          <p:cNvGrpSpPr/>
          <p:nvPr/>
        </p:nvGrpSpPr>
        <p:grpSpPr>
          <a:xfrm>
            <a:off x="609480" y="1371600"/>
            <a:ext cx="7772400" cy="4595400"/>
            <a:chOff x="609480" y="1371600"/>
            <a:chExt cx="7772400" cy="4595400"/>
          </a:xfrm>
        </p:grpSpPr>
        <p:grpSp>
          <p:nvGrpSpPr>
            <p:cNvPr id="141" name="Group 15"/>
            <p:cNvGrpSpPr/>
            <p:nvPr/>
          </p:nvGrpSpPr>
          <p:grpSpPr>
            <a:xfrm>
              <a:off x="609480" y="1371600"/>
              <a:ext cx="7772400" cy="4595400"/>
              <a:chOff x="609480" y="1371600"/>
              <a:chExt cx="7772400" cy="4595400"/>
            </a:xfrm>
          </p:grpSpPr>
          <p:grpSp>
            <p:nvGrpSpPr>
              <p:cNvPr id="142" name="Group 11"/>
              <p:cNvGrpSpPr/>
              <p:nvPr/>
            </p:nvGrpSpPr>
            <p:grpSpPr>
              <a:xfrm>
                <a:off x="609480" y="1371600"/>
                <a:ext cx="7772400" cy="4595400"/>
                <a:chOff x="609480" y="1371600"/>
                <a:chExt cx="7772400" cy="4595400"/>
              </a:xfrm>
            </p:grpSpPr>
            <p:grpSp>
              <p:nvGrpSpPr>
                <p:cNvPr id="143" name="Group 7"/>
                <p:cNvGrpSpPr/>
                <p:nvPr/>
              </p:nvGrpSpPr>
              <p:grpSpPr>
                <a:xfrm>
                  <a:off x="1295280" y="1752480"/>
                  <a:ext cx="7086600" cy="3429000"/>
                  <a:chOff x="1295280" y="1752480"/>
                  <a:chExt cx="7086600" cy="3429000"/>
                </a:xfrm>
              </p:grpSpPr>
              <p:sp>
                <p:nvSpPr>
                  <p:cNvPr id="144" name="Rectangle 4"/>
                  <p:cNvSpPr/>
                  <p:nvPr/>
                </p:nvSpPr>
                <p:spPr>
                  <a:xfrm>
                    <a:off x="1295280" y="2133360"/>
                    <a:ext cx="6629400" cy="30481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Line 5"/>
                  <p:cNvSpPr/>
                  <p:nvPr/>
                </p:nvSpPr>
                <p:spPr>
                  <a:xfrm>
                    <a:off x="7467480" y="5181480"/>
                    <a:ext cx="9144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Line 6"/>
                  <p:cNvSpPr/>
                  <p:nvPr/>
                </p:nvSpPr>
                <p:spPr>
                  <a:xfrm flipV="1">
                    <a:off x="1295280" y="1752480"/>
                    <a:ext cx="0" cy="9144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7" name="Text Box 8"/>
                <p:cNvSpPr/>
                <p:nvPr/>
              </p:nvSpPr>
              <p:spPr>
                <a:xfrm>
                  <a:off x="1143000" y="5181480"/>
                  <a:ext cx="1523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rojec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omple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Text Box 9"/>
                <p:cNvSpPr/>
                <p:nvPr/>
              </p:nvSpPr>
              <p:spPr>
                <a:xfrm>
                  <a:off x="7315200" y="5181480"/>
                  <a:ext cx="914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Tim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Text Box 10"/>
                <p:cNvSpPr/>
                <p:nvPr/>
              </p:nvSpPr>
              <p:spPr>
                <a:xfrm>
                  <a:off x="609480" y="1371600"/>
                  <a:ext cx="1600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Importanc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Line 12"/>
              <p:cNvSpPr/>
              <p:nvPr/>
            </p:nvSpPr>
            <p:spPr>
              <a:xfrm>
                <a:off x="1295280" y="2133720"/>
                <a:ext cx="1676520" cy="3047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13"/>
              <p:cNvSpPr/>
              <p:nvPr/>
            </p:nvSpPr>
            <p:spPr>
              <a:xfrm>
                <a:off x="2743200" y="2133720"/>
                <a:ext cx="2514600" cy="3047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14"/>
              <p:cNvSpPr/>
              <p:nvPr/>
            </p:nvSpPr>
            <p:spPr>
              <a:xfrm>
                <a:off x="4343400" y="2133720"/>
                <a:ext cx="3581280" cy="182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Text Box 16"/>
            <p:cNvSpPr/>
            <p:nvPr/>
          </p:nvSpPr>
          <p:spPr>
            <a:xfrm>
              <a:off x="1219320" y="3886200"/>
              <a:ext cx="1447560" cy="9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fficien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7"/>
            <p:cNvSpPr/>
            <p:nvPr/>
          </p:nvSpPr>
          <p:spPr>
            <a:xfrm>
              <a:off x="6095880" y="2286000"/>
              <a:ext cx="1752840" cy="9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eparing 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Fu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2666880" y="3657600"/>
              <a:ext cx="1447920" cy="9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act 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9"/>
            <p:cNvSpPr/>
            <p:nvPr/>
          </p:nvSpPr>
          <p:spPr>
            <a:xfrm>
              <a:off x="4648320" y="3200400"/>
              <a:ext cx="1447560" cy="86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siness Su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7139B-227E-45CD-AE30-40E93AA886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ing Project Management Mat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management maturity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er for business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zner’s project management maturity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I International’s project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I’s capability maturity model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91AC5-56CA-41B5-A1B4-753E4EFC79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der Web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Object 4"/>
          <p:cNvGraphicFramePr/>
          <p:nvPr/>
        </p:nvGraphicFramePr>
        <p:xfrm>
          <a:off x="990720" y="1371600"/>
          <a:ext cx="7162560" cy="46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Object 4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990720" y="1371600"/>
                    <a:ext cx="7162560" cy="46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50D2F-CFA1-47B1-967C-72B1EFB331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Management Maturit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ic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0"/>
          <p:cNvGrpSpPr/>
          <p:nvPr/>
        </p:nvGrpSpPr>
        <p:grpSpPr>
          <a:xfrm>
            <a:off x="1143000" y="1676520"/>
            <a:ext cx="6477120" cy="4495680"/>
            <a:chOff x="1143000" y="1676520"/>
            <a:chExt cx="6477120" cy="4495680"/>
          </a:xfrm>
        </p:grpSpPr>
        <p:sp>
          <p:nvSpPr>
            <p:cNvPr id="164" name="AutoShape 4"/>
            <p:cNvSpPr/>
            <p:nvPr/>
          </p:nvSpPr>
          <p:spPr>
            <a:xfrm>
              <a:off x="1143000" y="1676520"/>
              <a:ext cx="6477120" cy="44956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5"/>
            <p:cNvSpPr/>
            <p:nvPr/>
          </p:nvSpPr>
          <p:spPr>
            <a:xfrm>
              <a:off x="1600200" y="5334120"/>
              <a:ext cx="56386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ow Matur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 hoc process, no common language, little sup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6"/>
            <p:cNvSpPr/>
            <p:nvPr/>
          </p:nvSpPr>
          <p:spPr>
            <a:xfrm>
              <a:off x="1600200" y="4114800"/>
              <a:ext cx="5638680" cy="87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derate Matur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fined practices, training program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ganizational sup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7"/>
            <p:cNvSpPr/>
            <p:nvPr/>
          </p:nvSpPr>
          <p:spPr>
            <a:xfrm>
              <a:off x="3352680" y="2209680"/>
              <a:ext cx="2133720" cy="148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tur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stitutionalized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eks continuou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rov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8"/>
            <p:cNvSpPr/>
            <p:nvPr/>
          </p:nvSpPr>
          <p:spPr>
            <a:xfrm>
              <a:off x="2843280" y="3824280"/>
              <a:ext cx="3097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9"/>
            <p:cNvSpPr/>
            <p:nvPr/>
          </p:nvSpPr>
          <p:spPr>
            <a:xfrm>
              <a:off x="1905120" y="5105520"/>
              <a:ext cx="4952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9AE99-136B-4DB0-9E01-5ADD4ADDF1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it the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nel between England and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Windows V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neyland’s Expedition Ev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jects, rather than repetitive tasks, are now the basis for most value-added in busines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Tom P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60057-B126-4D9F-AB9E-EB41177C76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Elements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xt Orga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39" descr="pinto01_fig01"/>
          <p:cNvPicPr/>
          <p:nvPr/>
        </p:nvPicPr>
        <p:blipFill>
          <a:blip r:embed="rId1"/>
          <a:stretch/>
        </p:blipFill>
        <p:spPr>
          <a:xfrm>
            <a:off x="1332000" y="1665360"/>
            <a:ext cx="6737400" cy="43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BB0F9-1DBE-427D-90D8-901D3C0ED7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copyright"/>
          <p:cNvPicPr/>
          <p:nvPr/>
        </p:nvPicPr>
        <p:blipFill>
          <a:blip r:embed="rId1"/>
          <a:stretch/>
        </p:blipFill>
        <p:spPr>
          <a:xfrm>
            <a:off x="0" y="2136600"/>
            <a:ext cx="9144000" cy="285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18AF8-BB11-4211-BB0F-2EB0FFEB26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vs. Process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862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place outside the process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and separate from normal organization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ally ev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4572000" y="1600200"/>
            <a:ext cx="38862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oing, day-to-day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xisting systems, properties, and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repet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811080" y="4998960"/>
            <a:ext cx="72392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project is a temporary endeavor undertaken to create a unique product or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MBoK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FD0DB-B37A-40A2-BB59-F10FA00091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project is a unique venture with a beginning and an end, conducted by people to meet established goals within parameters of cost, schedule and quality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uchanan &amp; Boddy 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jects are goal-oriented, involve the coordinated undertaking of interrelated activities, are of finite duration, and are all, to a degree unique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rame 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DFE2B-1931-4958-A089-5FE01046A8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 of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mpl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ne-time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Limi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budget, schedule, and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to resolve a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lear goal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set of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ustomer-foc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45975-7DA0-4C14-B98C-43F14D275D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 Project Characterist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/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d-ho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deavors with a clear lif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uilding block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design and execution of organizational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ew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most improved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odu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ervices, and organizational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 philosophy and strategy for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anagement of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534F4-BAD2-43D8-9763-0D9C2B05E9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 Project Characteristic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/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ail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ros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al and organizatio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raditional management function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lanning, organizing, motivating, directing, and controlling app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l outcomes are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atisfaction of custome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withi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echnica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chedul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ermin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on successful comp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264A9-FAA8-440A-B601-7A97F8D88D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&amp; Project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able 1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6"/>
          <p:cNvSpPr/>
          <p:nvPr/>
        </p:nvSpPr>
        <p:spPr>
          <a:xfrm>
            <a:off x="358920" y="1305000"/>
            <a:ext cx="410364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process or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are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in place to integrate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, cost, &amp; time 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of the line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tions of establish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status q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8"/>
          <p:cNvSpPr/>
          <p:nvPr/>
        </p:nvSpPr>
        <p:spPr>
          <a:xfrm>
            <a:off x="4608360" y="1305000"/>
            <a:ext cx="421164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rocess or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shot – limited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heter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must be created to integrate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, cost &amp; time less cer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side of line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olates establish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sets status q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449F7-4B93-4ED9-86C9-6D863D746F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Success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&amp; hardware projec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il at a 65%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ver hal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ll IT projects becom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una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75% of all software projects a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nc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.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global businesses achieve 100%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ject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verage succ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business-critical application development projects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6A2E4-0CC6-4EA8-8205-3F7B1B97A9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4:51:49Z</dcterms:created>
  <dc:creator>Geoff Willis</dc:creator>
  <dc:description/>
  <dc:language>en-US</dc:language>
  <cp:lastModifiedBy>KS</cp:lastModifiedBy>
  <dcterms:modified xsi:type="dcterms:W3CDTF">2009-08-15T22:12:22Z</dcterms:modified>
  <cp:revision>40</cp:revision>
  <dc:subject/>
  <dc:title>Introduction: Why Project Management?</dc:title>
</cp:coreProperties>
</file>